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464-BE09-48FC-AB1B-C66467E7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773-DEC5-4EE1-992F-117A55FC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CEE-E497-406E-B30B-4A2C5B68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87F-51AD-4C59-ADD6-0B475664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E46-B66D-415F-A8DB-4EABF4F8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E47-DCDE-41B2-954E-F2A0A7FE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543-9C50-4CE7-A027-08C096EA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A14-453B-46A4-8FC4-D9FCE2A2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761-1CF1-4D40-97FB-A94783D4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0C3-529D-40BE-BE39-DB5BF718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031-9F5E-4CAD-9163-1ED3436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3F1-DEB1-43E0-9692-953476A3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EF93-FEC6-4E77-8DD1-D79000BC4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STC RPC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ory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Eierman/Bette Rine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0240" y="374760"/>
            <a:ext cx="7429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0 MHz Clearin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0240" y="374400"/>
            <a:ext cx="74296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0 MHz Clearin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6440" y="2417400"/>
            <a:ext cx="846144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Bush signed the date certain DTV transition legislation on Feb 8, 2006;  Part of S.1932, Deficit Reduction Act of 2005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 provid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m TV clearing date of 02/17/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$1B for interoperable communic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for public saf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216000"/>
            <a:ext cx="9167040" cy="5803200"/>
            <a:chOff x="0" y="216000"/>
            <a:chExt cx="9167040" cy="5803200"/>
          </a:xfrm>
        </p:grpSpPr>
        <p:grpSp>
          <p:nvGrpSpPr>
            <p:cNvPr id="47" name=""/>
            <p:cNvGrpSpPr/>
            <p:nvPr/>
          </p:nvGrpSpPr>
          <p:grpSpPr>
            <a:xfrm>
              <a:off x="0" y="216000"/>
              <a:ext cx="9167040" cy="5803200"/>
              <a:chOff x="0" y="216000"/>
              <a:chExt cx="9167040" cy="5803200"/>
            </a:xfrm>
          </p:grpSpPr>
          <p:pic>
            <p:nvPicPr>
              <p:cNvPr id="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16000"/>
                <a:ext cx="9167040" cy="580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992520" y="217440"/>
                <a:ext cx="718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TV Blocking Public Safety Spectru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10920" y="1721520"/>
              <a:ext cx="4355280" cy="47520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0920" y="1245960"/>
              <a:ext cx="4355280" cy="4752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840" y="1262520"/>
              <a:ext cx="439920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% Pop’l Totally 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’l 16% Pop’l Half 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protect incumbent full power TV stations as outlined in 90.545 until end of TV transition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of thumb separation of land mobile (LMR) and broadcast TV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channel (63/64) = 10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acent channel (62/63/64/65) = 60-8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channel (68/69) = 10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acent channel (67/68/69) = 8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Short-Sp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-spacing opportunities may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al ante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inimum possible ERP/Antenna H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provide certain av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t of Incumbent Broadc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file wa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ed Access Spectrum wai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ding New York State wa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4:23:25Z</dcterms:created>
  <dc:creator> </dc:creator>
  <dc:description/>
  <dc:language>en-US</dc:language>
  <cp:lastModifiedBy> </cp:lastModifiedBy>
  <dcterms:modified xsi:type="dcterms:W3CDTF">2006-11-15T14:23:58Z</dcterms:modified>
  <cp:revision>1</cp:revision>
  <dc:subject/>
  <dc:title>NPSTC RPC Committee</dc:title>
</cp:coreProperties>
</file>