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13A-7C5B-4052-9951-53C21FD3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9A2-C981-488B-B0CB-740DD91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8BE-2429-467A-89E7-C74E9FB2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FCC-E9EE-4316-9DF6-8DB1D1EB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42D-49E4-4465-BE7E-1CD7AD7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8E9-2EC7-480C-8742-A939283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00F-2389-415C-89BB-A38BA69A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C0A-E55D-4D97-9F50-ED95B40B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1C8-51A1-4633-8EF8-BA1DA183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C19-4A22-45A1-9474-57409EA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D0A-AD9C-41B8-870A-B6E59F0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EA6-C27C-4AF6-BB6E-49BE6C6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C121-7E92-42D8-B676-8316FE3E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STC RPC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Eierman/Bette Rine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0240" y="374760"/>
            <a:ext cx="7429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0 MHz Clearin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374400"/>
            <a:ext cx="74296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0 MHz Clearin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6440" y="2417400"/>
            <a:ext cx="846144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signed the date certain DTV transition legislation on Feb 8, 2006;  Part of S.1932, Deficit Reduction Act of 200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provid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 TV clearing date of 02/17/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$1B for interoperable commun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for public saf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16000"/>
            <a:ext cx="9167040" cy="5803200"/>
            <a:chOff x="0" y="216000"/>
            <a:chExt cx="9167040" cy="5803200"/>
          </a:xfrm>
        </p:grpSpPr>
        <p:grpSp>
          <p:nvGrpSpPr>
            <p:cNvPr id="47" name=""/>
            <p:cNvGrpSpPr/>
            <p:nvPr/>
          </p:nvGrpSpPr>
          <p:grpSpPr>
            <a:xfrm>
              <a:off x="0" y="216000"/>
              <a:ext cx="9167040" cy="5803200"/>
              <a:chOff x="0" y="216000"/>
              <a:chExt cx="9167040" cy="5803200"/>
            </a:xfrm>
          </p:grpSpPr>
          <p:pic>
            <p:nvPicPr>
              <p:cNvPr id="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9167040" cy="58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992520" y="217440"/>
                <a:ext cx="718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TV Blocking Public Safety Spectru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10920" y="1721520"/>
              <a:ext cx="4355280" cy="4752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0920" y="1245960"/>
              <a:ext cx="4355280" cy="4752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840" y="1262520"/>
              <a:ext cx="439920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% Pop’l Totally 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’l 16% Pop’l Half 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tect incumbent full power TV stations as outlined in 90.545 until end of TV transition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of thumb separation of land mobile (LMR) and broadcast T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channel (63/64) = 1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acent channel (62/63/64/65) = 60-8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channel (68/69) = 1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acent channel (67/68/69) = 8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Short-Sp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spacing opportunities may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al 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inimum possible ERP/Antenna H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provide certain a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of Incumbent Broadc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file wa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ed Access Spectrum wai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ing New York State wa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23:25Z</dcterms:created>
  <dc:creator> </dc:creator>
  <dc:description/>
  <dc:language>en-US</dc:language>
  <cp:lastModifiedBy> </cp:lastModifiedBy>
  <dcterms:modified xsi:type="dcterms:W3CDTF">2006-11-15T14:23:58Z</dcterms:modified>
  <cp:revision>1</cp:revision>
  <dc:subject/>
  <dc:title>NPSTC RPC Committee</dc:title>
</cp:coreProperties>
</file>