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ABA-FF3A-45D3-B191-360E5790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786-0105-417D-9A91-4CAE07E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5E0-38B9-483C-8F24-FA7BCAEE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AA7-BE01-4584-9E8B-18833F70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8E0-8BEA-40ED-820E-15487C80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8613-26E8-4088-8920-45910ED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A3DF-4C64-4009-8837-D058EC7A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D93A-42E5-4A2F-AD3C-AB36F92E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696F-8B2F-4317-8CE0-2852B4F8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7B4-6D8B-4B1A-BAF1-638D2436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A611-AF46-4E77-8C55-B58B299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6F3-8A0D-4C5A-828F-E1F76EFB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0F06-46D5-4B08-9201-B1589E2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37B-D906-4454-B69A-139387A6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EDCA-FF48-44A7-8C69-FD2A19A9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875A-F874-4BDF-8D02-078E6115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A153-CB3B-4473-B92D-9E8A437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81E-9113-41A1-848E-4941EFB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C16-1CDD-4C2E-A271-2913F94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AC9-D06A-4595-9FE6-91D042C7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E29-6832-410A-B0FC-AB78BD79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9CE-0462-46A4-8F71-7A78DC63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97D-3A60-401B-86BB-87FFDDB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B4-66BB-401E-BFC5-8D21BF87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664-B4AF-4AC4-8279-9F43600081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CC7B-2AF5-47A5-B0F5-4C8D4888BF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4960" y="2487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Existing VHF Systems:  </a:t>
            </a: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Already a problem. </a:t>
            </a:r>
            <a:br>
              <a:rPr sz="24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Not able to use adjacent channels at close distances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43120" y="1481040"/>
            <a:ext cx="38160" cy="45673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457280"/>
            <a:ext cx="0" cy="45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447920"/>
            <a:ext cx="0" cy="4495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00080" y="601992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45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60102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60199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5.7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1676520"/>
            <a:ext cx="9144000" cy="2286000"/>
            <a:chOff x="0" y="1676520"/>
            <a:chExt cx="9144000" cy="2286000"/>
          </a:xfrm>
        </p:grpSpPr>
        <p:sp>
          <p:nvSpPr>
            <p:cNvPr id="104" name=""/>
            <p:cNvSpPr/>
            <p:nvPr/>
          </p:nvSpPr>
          <p:spPr>
            <a:xfrm>
              <a:off x="0" y="1828800"/>
              <a:ext cx="3657600" cy="121932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205740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5146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2743200"/>
              <a:ext cx="3657600" cy="121932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24080" y="297180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342900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1676520"/>
              <a:ext cx="3657600" cy="1218960"/>
            </a:xfrm>
            <a:prstGeom prst="ellipse">
              <a:avLst/>
            </a:prstGeom>
            <a:solidFill>
              <a:srgbClr val="cccc99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6400" y="1828800"/>
              <a:ext cx="838080" cy="2133720"/>
            </a:xfrm>
            <a:prstGeom prst="rect">
              <a:avLst/>
            </a:prstGeom>
            <a:solidFill>
              <a:srgbClr val="ff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6400" y="236232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190512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KHz 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1828800"/>
              <a:ext cx="838080" cy="2133720"/>
            </a:xfrm>
            <a:prstGeom prst="rect">
              <a:avLst/>
            </a:prstGeom>
            <a:solidFill>
              <a:srgbClr val="ff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4100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62000" y="4530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jacent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29040" y="489600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47800" y="48960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56386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752480" y="56386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56386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71640" y="56386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5909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03840" y="35211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6760" y="24084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1195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00280" y="51195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DDC-6A80-45FF-970D-896B76F63BAF}" type="slidenum">
              <a:t>1</a:t>
            </a:fld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52480" y="144792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95680" y="144792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315200" y="1371600"/>
            <a:ext cx="0" cy="45720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0400" y="1447560"/>
            <a:ext cx="0" cy="352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4222800"/>
            <a:ext cx="0" cy="194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945040" y="1523520"/>
            <a:ext cx="0" cy="350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5040" y="4384800"/>
            <a:ext cx="0" cy="178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9760" y="2012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After Narrowband:    </a:t>
            </a: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Still a problem</a:t>
            </a:r>
            <a:br>
              <a:rPr sz="28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Narrowband channels not usable until wideband users vacate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1000" y="60199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6019920"/>
            <a:ext cx="15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47920"/>
            <a:ext cx="3657600" cy="121896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096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438280"/>
            <a:ext cx="3657600" cy="121932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2666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312408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447920"/>
            <a:ext cx="3657600" cy="1218960"/>
          </a:xfrm>
          <a:prstGeom prst="ellipse">
            <a:avLst/>
          </a:prstGeom>
          <a:solidFill>
            <a:srgbClr val="cccc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1523880"/>
            <a:ext cx="838080" cy="213372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057400"/>
            <a:ext cx="3657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K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523880"/>
            <a:ext cx="838080" cy="2133720"/>
          </a:xfrm>
          <a:prstGeom prst="rect">
            <a:avLst/>
          </a:prstGeom>
          <a:solidFill>
            <a:srgbClr val="ff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289548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9718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857760"/>
            <a:ext cx="175284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080" y="463860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3720" y="5553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33880" y="55530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09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200400"/>
            <a:ext cx="14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63600" y="210348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de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425772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1680" y="4181400"/>
            <a:ext cx="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19480" y="55530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23800" y="5553000"/>
            <a:ext cx="971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5240" y="4753080"/>
            <a:ext cx="143820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KHz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81400" y="385776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324120" y="2895120"/>
            <a:ext cx="12956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23880" y="2819520"/>
            <a:ext cx="12193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402-7A38-4B47-B378-AC4BB03B87B7}" type="slidenum">
              <a:t>2</a:t>
            </a:fld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52480" y="213372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95680" y="213336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315200" y="2133360"/>
            <a:ext cx="0" cy="38098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00400" y="2133360"/>
            <a:ext cx="0" cy="30128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505400"/>
            <a:ext cx="0" cy="1666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943600" y="2133720"/>
            <a:ext cx="0" cy="4038480"/>
            <a:chOff x="5943600" y="2133720"/>
            <a:chExt cx="0" cy="4038480"/>
          </a:xfrm>
        </p:grpSpPr>
        <p:sp>
          <p:nvSpPr>
            <p:cNvPr id="183" name=""/>
            <p:cNvSpPr/>
            <p:nvPr/>
          </p:nvSpPr>
          <p:spPr>
            <a:xfrm flipV="1">
              <a:off x="5943600" y="2133720"/>
              <a:ext cx="0" cy="3044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4619520"/>
              <a:ext cx="0" cy="1552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After all convert to Narrowband</a:t>
            </a:r>
            <a:br>
              <a:rPr sz="4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Still some overlay with analog modulation 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3733920"/>
            <a:ext cx="175248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3276720"/>
            <a:ext cx="167652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320040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20040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335268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3352680"/>
            <a:ext cx="30492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6520" y="4581360"/>
            <a:ext cx="106668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54198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43240" y="54198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3434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4343400"/>
            <a:ext cx="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91040" y="5419800"/>
            <a:ext cx="838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352600" y="54198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95520" y="4724280"/>
            <a:ext cx="144792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1KHz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733920"/>
            <a:ext cx="16761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327672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352680"/>
            <a:ext cx="304560" cy="1143000"/>
          </a:xfrm>
          <a:prstGeom prst="rect">
            <a:avLst/>
          </a:prstGeom>
          <a:solidFill>
            <a:srgbClr val="ff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00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represents analog voice with a 11KHz necessa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372744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94040" y="330660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9960" y="3306600"/>
            <a:ext cx="162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62400" y="3805200"/>
            <a:ext cx="162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4000" y="330840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ALOG 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81D-E575-4893-8CA1-1FA9FAC0EDC0}" type="slidenum">
              <a:t>3</a:t>
            </a:fld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52480" y="213372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133360"/>
            <a:ext cx="0" cy="38862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315200" y="2133360"/>
            <a:ext cx="0" cy="38098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00400" y="2133360"/>
            <a:ext cx="0" cy="30128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505400"/>
            <a:ext cx="0" cy="1666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943600" y="2133720"/>
            <a:ext cx="0" cy="4038480"/>
            <a:chOff x="5943600" y="2133720"/>
            <a:chExt cx="0" cy="4038480"/>
          </a:xfrm>
        </p:grpSpPr>
        <p:sp>
          <p:nvSpPr>
            <p:cNvPr id="226" name=""/>
            <p:cNvSpPr/>
            <p:nvPr/>
          </p:nvSpPr>
          <p:spPr>
            <a:xfrm flipV="1">
              <a:off x="5943600" y="2133720"/>
              <a:ext cx="0" cy="30448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43600" y="4619520"/>
              <a:ext cx="0" cy="1552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7000" y="25668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onvert to Project 25 Digital</a:t>
            </a:r>
            <a:br>
              <a:rPr sz="4000"/>
            </a:br>
            <a:r>
              <a:rPr b="0" lang="en-US" sz="2000" spc="-1" strike="noStrike">
                <a:solidFill>
                  <a:srgbClr val="330033"/>
                </a:solidFill>
                <a:latin typeface="Tahoma"/>
              </a:rPr>
              <a:t>Phase I  Digital Modulation allows tighter packing of channels</a:t>
            </a:r>
            <a:br>
              <a:rPr sz="2000"/>
            </a:br>
            <a:r>
              <a:rPr b="0" lang="en-US" sz="1400" spc="-1" strike="noStrike">
                <a:solidFill>
                  <a:srgbClr val="330033"/>
                </a:solidFill>
                <a:latin typeface="Tahoma"/>
              </a:rPr>
              <a:t>Still a very minor overlay in the VHF band.                                                                                UHF band will have no overlay because of 12.5KHz Channel Spacing.</a:t>
            </a:r>
            <a:endParaRPr b="0" lang="en-US" sz="1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4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095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6019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75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5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6248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155.7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76800" y="4057560"/>
            <a:ext cx="1067040" cy="824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.5KHz Channel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01012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240" y="50101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3434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7162560" y="5409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600200" y="540972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047760" y="556200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5790960" y="54856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057560"/>
            <a:ext cx="1371600" cy="642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.1KHz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78240" y="32209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16002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25 with C4FM Modulation only requires 8.1KHz Necessar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78000" y="478152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468160" y="47815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70320" y="3570120"/>
            <a:ext cx="0" cy="1295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38680" y="357192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9000" y="32209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2720" y="3220920"/>
            <a:ext cx="135756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38720" y="32227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26160" y="3222720"/>
            <a:ext cx="1357200" cy="68580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RROW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15240" y="6572160"/>
            <a:ext cx="19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oe Kuran Oregon SI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A34-60F3-4548-8D62-D45372069313}" type="slidenum">
              <a:t>4</a:t>
            </a:fld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5:35:07Z</dcterms:created>
  <dc:creator>JOE KURAN</dc:creator>
  <dc:description/>
  <dc:language>en-US</dc:language>
  <cp:lastModifiedBy> </cp:lastModifiedBy>
  <dcterms:modified xsi:type="dcterms:W3CDTF">2005-02-08T21:39:01Z</dcterms:modified>
  <cp:revision>103</cp:revision>
  <dc:subject/>
  <dc:title>FCC DOCKET 99-87</dc:title>
</cp:coreProperties>
</file>