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A74-B0D6-4035-A169-BD6122D4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CEE-E6F5-4259-B1FA-8282896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4ED-12CB-4C2C-AAD5-F62FCD07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491-88F6-4C97-BBED-8B6B2CCA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50BD-DEE6-442A-82B4-5591F194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B23B-F85D-42E6-999A-04706787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422E-DAF1-4F01-831E-7B18EF8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7260-E094-44E0-86CB-7821BB5E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808C-80AF-458B-A929-D8527D4F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AD1A-D8ED-4513-8AF0-EA538726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6EB4-70FD-4D6A-BF9B-42055BB4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C7F-E33A-44F8-963D-169970AB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7890-C1DB-4E84-9BF1-DFA2622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68A5-6056-49AE-9549-22FCC4F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AB98-55D9-4C1F-B81D-9BFF2D7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E4D9-C556-42FA-8324-15FB09C3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C90E-6CF9-4F85-AF24-288B527D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26C-A8E8-41E6-B144-AB4A36B9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8FE-F6F1-47E0-A3F8-E095075A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580-3A69-4E4C-B810-B2A61A96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63F-E1B2-422D-8CEB-D88157BD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B3E-E96A-48DA-A7D8-10AFF912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DD5-6957-4E58-AF48-1BFA472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1E0-3928-4F31-97E4-3B6726F0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DB86-E7A8-408F-9B90-A5C445B379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3F2A-B393-4338-B956-EF714B214E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4960" y="2487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Existing VHF Systems:  </a:t>
            </a: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Already a problem.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Not able to use adjacent channels at close distances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43120" y="1481040"/>
            <a:ext cx="38160" cy="4567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457280"/>
            <a:ext cx="0" cy="45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447920"/>
            <a:ext cx="0" cy="44956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00080" y="601992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5.745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60102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5.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60199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5.7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676520"/>
            <a:ext cx="9144000" cy="2286000"/>
            <a:chOff x="0" y="1676520"/>
            <a:chExt cx="9144000" cy="2286000"/>
          </a:xfrm>
        </p:grpSpPr>
        <p:sp>
          <p:nvSpPr>
            <p:cNvPr id="104" name=""/>
            <p:cNvSpPr/>
            <p:nvPr/>
          </p:nvSpPr>
          <p:spPr>
            <a:xfrm>
              <a:off x="0" y="1828800"/>
              <a:ext cx="3657600" cy="1219320"/>
            </a:xfrm>
            <a:prstGeom prst="ellipse">
              <a:avLst/>
            </a:prstGeom>
            <a:solidFill>
              <a:srgbClr val="cccc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205740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KHz 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5146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2743200"/>
              <a:ext cx="3657600" cy="1219320"/>
            </a:xfrm>
            <a:prstGeom prst="ellipse">
              <a:avLst/>
            </a:prstGeom>
            <a:solidFill>
              <a:srgbClr val="cccc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297180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KHz 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34290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86400" y="1676520"/>
              <a:ext cx="3657600" cy="1218960"/>
            </a:xfrm>
            <a:prstGeom prst="ellipse">
              <a:avLst/>
            </a:prstGeom>
            <a:solidFill>
              <a:srgbClr val="cccc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6400" y="1828800"/>
              <a:ext cx="838080" cy="2133720"/>
            </a:xfrm>
            <a:prstGeom prst="rect">
              <a:avLst/>
            </a:prstGeom>
            <a:solidFill>
              <a:srgbClr val="ff00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6400" y="236232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190512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KHz 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1828800"/>
              <a:ext cx="838080" cy="2133720"/>
            </a:xfrm>
            <a:prstGeom prst="rect">
              <a:avLst/>
            </a:prstGeom>
            <a:solidFill>
              <a:srgbClr val="ff00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4100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62000" y="45306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jacent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29040" y="48960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47800" y="48960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56386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752480" y="56386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563868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71640" y="56386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5909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03840" y="35211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6760" y="24084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15240" y="6572160"/>
            <a:ext cx="19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oe Kuran Oregon SI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119560"/>
            <a:ext cx="10666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00280" y="5119560"/>
            <a:ext cx="10666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1B1-922A-4F18-9C1D-6202C9F6EA1B}" type="slidenum">
              <a:t>1</a:t>
            </a:fld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2480" y="1447920"/>
            <a:ext cx="0" cy="45720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95680" y="1447920"/>
            <a:ext cx="0" cy="45720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315200" y="1371600"/>
            <a:ext cx="0" cy="45720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0400" y="1447560"/>
            <a:ext cx="0" cy="352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4222800"/>
            <a:ext cx="0" cy="1949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945040" y="1523520"/>
            <a:ext cx="0" cy="350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5040" y="4384800"/>
            <a:ext cx="0" cy="178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9760" y="2012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After Narrowband:    </a:t>
            </a: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Still a problem</a:t>
            </a:r>
            <a:br>
              <a:rPr sz="28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Narrowband channels not usable until wideband users vacate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81000" y="60199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6095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601992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447920"/>
            <a:ext cx="3657600" cy="121896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K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096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438280"/>
            <a:ext cx="3657600" cy="121932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666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K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31240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447920"/>
            <a:ext cx="3657600" cy="121896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523880"/>
            <a:ext cx="838080" cy="213372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05740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1600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K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523880"/>
            <a:ext cx="838080" cy="213372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289548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97180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55.75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55.7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3857760"/>
            <a:ext cx="175284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080" y="4638600"/>
            <a:ext cx="10666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.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3720" y="5553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33880" y="55530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209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200400"/>
            <a:ext cx="14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63600" y="210348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425772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1680" y="4181400"/>
            <a:ext cx="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19480" y="55530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23800" y="5553000"/>
            <a:ext cx="971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3434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7162560" y="5409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6002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047760" y="556200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5790960" y="54856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5240" y="4753080"/>
            <a:ext cx="1438200" cy="642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KHz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81400" y="3857760"/>
            <a:ext cx="16761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324120" y="2895120"/>
            <a:ext cx="12956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23880" y="2819520"/>
            <a:ext cx="12193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15240" y="6572160"/>
            <a:ext cx="19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oe Kuran Oregon SI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B37-01DC-4E4D-8DF8-98BBCD4CB5B6}" type="slidenum">
              <a:t>2</a:t>
            </a:fld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52480" y="2133720"/>
            <a:ext cx="0" cy="3886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95680" y="2133360"/>
            <a:ext cx="0" cy="3886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315200" y="2133360"/>
            <a:ext cx="0" cy="38098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00400" y="2133360"/>
            <a:ext cx="0" cy="30128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4505400"/>
            <a:ext cx="0" cy="1666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943600" y="2133720"/>
            <a:ext cx="0" cy="4038480"/>
            <a:chOff x="5943600" y="2133720"/>
            <a:chExt cx="0" cy="4038480"/>
          </a:xfrm>
        </p:grpSpPr>
        <p:sp>
          <p:nvSpPr>
            <p:cNvPr id="183" name=""/>
            <p:cNvSpPr/>
            <p:nvPr/>
          </p:nvSpPr>
          <p:spPr>
            <a:xfrm flipV="1">
              <a:off x="5943600" y="2133720"/>
              <a:ext cx="0" cy="30448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4619520"/>
              <a:ext cx="0" cy="15526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After all convert to Narrowband</a:t>
            </a:r>
            <a:br>
              <a:rPr sz="42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Still some overlay with analog modulation 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6095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75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5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3733920"/>
            <a:ext cx="175248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3276720"/>
            <a:ext cx="167652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3200400"/>
            <a:ext cx="16761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200400"/>
            <a:ext cx="16761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3352680"/>
            <a:ext cx="304560" cy="1143000"/>
          </a:xfrm>
          <a:prstGeom prst="rect">
            <a:avLst/>
          </a:prstGeom>
          <a:solidFill>
            <a:srgbClr val="ff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3352680"/>
            <a:ext cx="304920" cy="1143000"/>
          </a:xfrm>
          <a:prstGeom prst="rect">
            <a:avLst/>
          </a:prstGeom>
          <a:solidFill>
            <a:srgbClr val="ff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6520" y="4581360"/>
            <a:ext cx="10666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.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54198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43240" y="54198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34340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4343400"/>
            <a:ext cx="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91040" y="54198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352600" y="54198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43434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7162560" y="5409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16002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3047760" y="556200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5790960" y="54856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95520" y="4724280"/>
            <a:ext cx="1447920" cy="642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KHz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733920"/>
            <a:ext cx="16761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3276720"/>
            <a:ext cx="304560" cy="1143000"/>
          </a:xfrm>
          <a:prstGeom prst="rect">
            <a:avLst/>
          </a:prstGeom>
          <a:solidFill>
            <a:srgbClr val="ff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3352680"/>
            <a:ext cx="304560" cy="1143000"/>
          </a:xfrm>
          <a:prstGeom prst="rect">
            <a:avLst/>
          </a:prstGeom>
          <a:solidFill>
            <a:srgbClr val="ff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00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represents analog voice with a 11KHz necessar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3727440"/>
            <a:ext cx="162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94040" y="3306600"/>
            <a:ext cx="162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19960" y="3306600"/>
            <a:ext cx="162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62400" y="3805200"/>
            <a:ext cx="162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4000" y="330840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15240" y="6572160"/>
            <a:ext cx="19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oe Kuran Oregon SI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8FD-26C7-46D2-B172-D41EA2086BC3}" type="slidenum">
              <a:t>3</a:t>
            </a:fld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52480" y="2133720"/>
            <a:ext cx="0" cy="3886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133360"/>
            <a:ext cx="0" cy="3886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315200" y="2133360"/>
            <a:ext cx="0" cy="38098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200400" y="2133360"/>
            <a:ext cx="0" cy="30128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4505400"/>
            <a:ext cx="0" cy="1666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943600" y="2133720"/>
            <a:ext cx="0" cy="4038480"/>
            <a:chOff x="5943600" y="2133720"/>
            <a:chExt cx="0" cy="4038480"/>
          </a:xfrm>
        </p:grpSpPr>
        <p:sp>
          <p:nvSpPr>
            <p:cNvPr id="226" name=""/>
            <p:cNvSpPr/>
            <p:nvPr/>
          </p:nvSpPr>
          <p:spPr>
            <a:xfrm flipV="1">
              <a:off x="5943600" y="2133720"/>
              <a:ext cx="0" cy="30448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3600" y="4619520"/>
              <a:ext cx="0" cy="15526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7000" y="25668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onvert to Project 25 Digital</a:t>
            </a:r>
            <a:br>
              <a:rPr sz="4000"/>
            </a:b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Phase I  Digital Modulation allows tighter packing of channels</a:t>
            </a:r>
            <a:br>
              <a:rPr sz="2000"/>
            </a:br>
            <a:r>
              <a:rPr b="0" lang="en-US" sz="1400" spc="-1" strike="noStrike">
                <a:solidFill>
                  <a:srgbClr val="330033"/>
                </a:solidFill>
                <a:latin typeface="Tahoma"/>
              </a:rPr>
              <a:t>Still a very minor overlay in the VHF band.                                                                                UHF band will have no overlay because of 12.5KHz Channel Spacing.</a:t>
            </a: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095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75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5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76800" y="4057560"/>
            <a:ext cx="106704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.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01012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240" y="50101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43434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7162560" y="5409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16002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047760" y="556200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5790960" y="54856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4057560"/>
            <a:ext cx="1371600" cy="642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.1KHz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78240" y="3220920"/>
            <a:ext cx="135720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16002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25 with C4FM Modulation only requires 8.1KHz Necessar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78000" y="478152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468160" y="47815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70320" y="3570120"/>
            <a:ext cx="0" cy="129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38680" y="357192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9000" y="3220920"/>
            <a:ext cx="135720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52720" y="3220920"/>
            <a:ext cx="13575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38720" y="3222720"/>
            <a:ext cx="135720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26160" y="3222720"/>
            <a:ext cx="135720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15240" y="6572160"/>
            <a:ext cx="19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oe Kuran Oregon SI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5B6-BE2A-48A2-A0BB-C307BE076E9C}" type="slidenum">
              <a:t>4</a:t>
            </a:fld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5:35:07Z</dcterms:created>
  <dc:creator>JOE KURAN</dc:creator>
  <dc:description/>
  <dc:language>en-US</dc:language>
  <cp:lastModifiedBy> </cp:lastModifiedBy>
  <dcterms:modified xsi:type="dcterms:W3CDTF">2005-02-08T21:39:01Z</dcterms:modified>
  <cp:revision>103</cp:revision>
  <dc:subject/>
  <dc:title>FCC DOCKET 99-87</dc:title>
</cp:coreProperties>
</file>