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10B4-069A-4588-A460-482451397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032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E20C-85A8-4C36-BE9B-97424C25A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032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B003-A6D6-48B4-A4C7-244D2505F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032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84C4-EE7F-4683-8968-DB7CE3D57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40D69-4B9A-4E5C-BF0C-F50FEFACC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032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93D2E-D8AE-46C0-8F01-87E440A9A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032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76409-79E8-4CE5-A0B7-1EB758D2C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032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14691-ADCC-40CD-A296-16A5085C5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032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851ED-5536-453D-ADB4-FD7617F5B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403200"/>
            <a:ext cx="7772400" cy="721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AF3EF-9A6F-4B33-AC7A-FD82141FB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032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AF8E0-535C-4104-A1C7-AB81B13E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032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3EC5-5FBA-4D48-B23C-3FDF24749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032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9E1BB-7E8E-42A6-84AA-7B3C433CA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032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25D87-804E-45FB-BF65-871E08B7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032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7A35A-1763-4339-A73A-F001B8118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032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55178-6F97-43CD-BB62-945B63FDF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032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C5C3A-DE89-4BF0-B5F5-C15E8282C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032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560D-76C5-4FC8-9F49-41EB2FEA6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032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224F-6058-4242-8EE4-6F259AEB4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032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8798-35B5-4E98-8D51-22D395B3E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03200"/>
            <a:ext cx="7772400" cy="721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4B99-65A8-4F04-9E9C-9B18B9AF8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032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FEDD-DA38-43A7-871A-3C1EBD3D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032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112B-5734-4454-B736-92F04C570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032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946B-8A6B-49AF-A563-D96541DE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032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FADC5-03C6-46DE-99AE-39A57535411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2392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ugust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oject P.R.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58280"/>
            <a:ext cx="7772400" cy="13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Project P.R.O.</a:t>
            </a:r>
            <a:br>
              <a:rPr sz="4800"/>
            </a:b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What is it?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ject 37 becomes Project P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fessional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cognition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tai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ject Goal is to create a professional certification program that will recognize those emergency communications personnel who meet a validated professional stand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524880"/>
            <a:ext cx="77724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Project P.R.O.</a:t>
            </a:r>
            <a:br>
              <a:rPr sz="4800"/>
            </a:b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hat are the general eligibilities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Line Communications Supervi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 minimum of 5 years in public safety communications with 2 years experience in a shift supervision or lead operator role, or as a supervisor are required for the Supervision Certification.   Experience in and knowledge of quality assurance, team building and first line supervision skills will be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54760"/>
            <a:ext cx="7772400" cy="12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Project P.R.O.</a:t>
            </a:r>
            <a:br>
              <a:rPr sz="4800"/>
            </a:b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What are the general eligibilities?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ing Special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roposed as an addendum to the advanced operations level, this certification will target communications personnel who have at least 2 years experience training communications personnel as an “on-the-job” Training Officer or agency Instructo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554760"/>
            <a:ext cx="7772400" cy="12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Project P.R.O.</a:t>
            </a:r>
            <a:br>
              <a:rPr sz="4800"/>
            </a:b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What are the general eligibilities?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e Training Management certification targets personnel whose role includes overseeing public safety communications training program development, implementation and documentation, and “training the trainers”, or classroom instruction in advanced operations topics. A minimum of 2 years experience overseeing a training program will be required prior to certification at this leve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554760"/>
            <a:ext cx="7772400" cy="12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Project P.R.O.</a:t>
            </a:r>
            <a:br>
              <a:rPr sz="4800"/>
            </a:b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What are the general eligibilities?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398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ligibility for the Communications Center Management certification requir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8 years full-time experience in public safety communications with 2 years in a managing rol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O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5 years experience in public safety communications with 2 years of supervisory experienc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either 2 years in management in any field, or a college degree in a related fiel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he successful candidate will have a strong knowledge of organizational and operational theory applied to public safety communications. A firm understanding of communications systems, as well as personnel management and fiscal management will be necessar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554760"/>
            <a:ext cx="7772400" cy="12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Project P.R.O.</a:t>
            </a:r>
            <a:br>
              <a:rPr sz="4800"/>
            </a:b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How will certification be achieved?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didates will submit documentation that  experience, core training, additional training and education, and professional contributions meet the established standards of eligibility criteria at each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knowledge based test will be required at some/all lev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iteria have been established to allow “Lifetime Learning” credits in lieu of some educational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54760"/>
            <a:ext cx="7772400" cy="12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Project P.R.O.</a:t>
            </a:r>
            <a:br>
              <a:rPr sz="4800"/>
            </a:b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What is the current status?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gram is still in development and will be implemented in st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RFI has been issued for test development and deliv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nding sources are being investiga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54760"/>
            <a:ext cx="7772400" cy="12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Project P.R.O.</a:t>
            </a:r>
            <a:br>
              <a:rPr sz="4800"/>
            </a:b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What else needs to be done?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ject’s current goals a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aluate available, affordable, and effective methods of assessment, test development and delive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 test items, validate testing materi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dentify the amount and sources of funding to support the implementation of the prog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inue to develop the program administration pl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ile marketing objectives and ide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lete the program business pl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 a detailed action plan and time line for implemen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54760"/>
            <a:ext cx="7772400" cy="12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Project P.R.O.</a:t>
            </a:r>
            <a:br>
              <a:rPr sz="4800"/>
            </a:b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 2002-2003 Project Team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ynne Feller, Cha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ch Abr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ncy Bra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llis Car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ny Harri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nielle How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dall Lar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e McCl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e No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z Philli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dice Sol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CO 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VP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ana Bor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CO HQ Liason Woody Glov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67760"/>
            <a:ext cx="7772400" cy="28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cc00"/>
                </a:solidFill>
                <a:uFillTx/>
                <a:latin typeface="Arial Black"/>
              </a:rPr>
              <a:t>P</a:t>
            </a: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rofessional</a:t>
            </a: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 </a:t>
            </a:r>
            <a:br>
              <a:rPr sz="4800"/>
            </a:b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lang="en-US" sz="4800" spc="-1" strike="noStrike" u="sng">
                <a:solidFill>
                  <a:srgbClr val="ffcc00"/>
                </a:solidFill>
                <a:uFillTx/>
                <a:latin typeface="Arial Black"/>
              </a:rPr>
              <a:t>R</a:t>
            </a: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ecognition</a:t>
            </a:r>
            <a:br>
              <a:rPr sz="4000"/>
            </a:b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1" lang="en-US" sz="4800" spc="-1" strike="noStrike" u="sng">
                <a:solidFill>
                  <a:srgbClr val="ffcc00"/>
                </a:solidFill>
                <a:uFillTx/>
                <a:latin typeface="Arial Black"/>
              </a:rPr>
              <a:t>O</a:t>
            </a: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btainment</a:t>
            </a:r>
            <a:br>
              <a:rPr sz="4000"/>
            </a:b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What is it?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28951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ission of the Certification Program is to establish a visible and valuable standard of quality that fosters the professional development of public safety communications personnel through recognition of knowledge, experience, training, and edu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13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Project P.R.O.</a:t>
            </a:r>
            <a:br>
              <a:rPr sz="4800"/>
            </a:b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Why is it important?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ergency communications is a crucial part of public safety emergency services.  Due to increased awareness, the public expects a high level of quality service from the individuals who operate 9-1-1 PSAPs and Public Safety Communications Cen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PCO Long Range Strategic Plan recognizes the importance of professional development, and high standards through certific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rtification supports the APCO Miss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13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Project P.R.O.</a:t>
            </a:r>
            <a:br>
              <a:rPr sz="4800"/>
            </a:b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What will it do?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rtification will foster the professional development of personnel in public safety communications by challenging them to meet high standards of experience, education and training, and knowledge in their fie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13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Project P.R.O.</a:t>
            </a:r>
            <a:br>
              <a:rPr sz="4800"/>
            </a:b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What are the benefits?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the participant: the establishment of career credentials, formal acknowledgment of expertise, the promotion of continuing education and training, and promotion of professional self-esteem and recogni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public safety agencies:creation of more credibility, encouragement of enhanced job performance, more knowledgeable employees, and increased protection from liabil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the public: higher professional standards for personnel involved in emergency communications profess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3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Project P.R.O.</a:t>
            </a:r>
            <a:br>
              <a:rPr sz="4800"/>
            </a:b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What has been done?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s Assessment Stu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b Task/Skill Analysis w/Valid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ram Handbook develop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igibility criteria establish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sonal, Experience, Education/Training course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fetime Learning Credits establish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ertification criteria establish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inuing Edu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vice to the prof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20680"/>
            <a:ext cx="77724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Project P.R.O.</a:t>
            </a:r>
            <a:br>
              <a:rPr sz="4800"/>
            </a:b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What certifications will be available?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currently proposed, certification standards will be available at the following level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ic Ope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vanced Ope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ining Special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ining Program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line Supervi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unications Center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rtification is based on eligibility for a level, not the candidates job title or classif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524880"/>
            <a:ext cx="77724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Project P.R.O.</a:t>
            </a:r>
            <a:br>
              <a:rPr sz="4800"/>
            </a:b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hat are the general eligibilities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blic Safety Communications Level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asic Operations standard requires a minimum of 2 years full time or 4000 hours part-time experience in public safety communications operation. To meet the standard it will be necessary to have a well-rounded, basic level of education and training in public safety communications subject mat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13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Project P.R.O.</a:t>
            </a:r>
            <a:br>
              <a:rPr sz="4800"/>
            </a:b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hat are the general eligibilities</a:t>
            </a: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?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lic Safety Communications Level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dvanced Operations certification standard requires a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inimum of 4 years full-time or 6000 hours part-time experience in public safety communications operations. The successful candidate will have continued their training and education beyond the Basic Operations, in a variety of subject areas. Knowledge based testing will be develop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00:19:22Z</dcterms:created>
  <dc:creator>Lynne</dc:creator>
  <dc:description/>
  <dc:language>en-US</dc:language>
  <cp:lastModifiedBy>Lynne</cp:lastModifiedBy>
  <dcterms:modified xsi:type="dcterms:W3CDTF">2002-08-12T20:15:09Z</dcterms:modified>
  <cp:revision>9</cp:revision>
  <dc:subject/>
  <dc:title>Project P.R.O.</dc:title>
</cp:coreProperties>
</file>