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94CE-D705-40DB-BD27-775FC69A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6E4D-5847-4C4A-8E42-0167EA17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5E7E-0D2D-4E83-B5A0-EB09F49C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4149-C78B-432C-ACF4-E39F4DF9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C7F8-10B5-4EB3-A2B7-6E118FB88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C155-180C-4E19-BB6F-224D1550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7481-F06C-4EB5-BE82-2AEDDCA2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C77F-B0A0-438D-8C1E-5B8AE29A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7A3D-2E0F-43A2-9DAB-E646599A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03200"/>
            <a:ext cx="777240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92ED-1482-49E3-A6C2-4DE3C05B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33E6-60D7-4B6F-B630-E9F6FA2C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E229-26DF-46C8-8594-95C5200E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5B1F-4C93-4DEE-87AB-A0857047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7A52-ACD3-499A-A553-6B93EF88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2150-2BE1-445A-B574-3B4C4AB6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E940-820A-49B6-B447-6711227E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D53A-F3F7-4D18-BE59-ADEFF604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D933-C371-41FB-B5C7-8C2365FF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5ED2-539B-4F22-85AF-8A49C667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C013-791A-47AE-B088-F8148EED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03200"/>
            <a:ext cx="777240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F3DA-9030-4BD4-A407-B8862B8A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3B72-8CF4-46A1-AAA8-5F1071C4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9D41-D8D0-470D-8414-12AB957E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6D8D-1208-4BE7-9F93-51EB8C23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318E-6F99-421A-ACFF-022A8064C1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2392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ugust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ject P.R.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828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ject P.R.O.</a:t>
            </a:r>
            <a:br>
              <a:rPr sz="4800"/>
            </a:b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What is it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37 becomes Project P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fessional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gnition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tai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ject Goal is to create a professional certification program that will recognize those emergency communications personnel who meet a validated professional stand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24880"/>
            <a:ext cx="77724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ject P.R.O.</a:t>
            </a:r>
            <a:br>
              <a:rPr sz="48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are the general eligibilitie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Line Communications Super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minimum of 5 years in public safety communications with 2 years experience in a shift supervision or lead operator role, or as a supervisor are required for the Supervision Certification.   Experience in and knowledge of quality assurance, team building and first line supervision skills will be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54760"/>
            <a:ext cx="77724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ject P.R.O.</a:t>
            </a:r>
            <a:br>
              <a:rPr sz="4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hat are the general eligibilities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Specia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oposed as an addendum to the advanced operations level, this certification will target communications personnel who have at least 2 years experience training communications personnel as an “on-the-job” Training Officer or agency Instructo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54760"/>
            <a:ext cx="77724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ject P.R.O.</a:t>
            </a:r>
            <a:br>
              <a:rPr sz="4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hat are the general eligibilities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Training Management certification targets personnel whose role includes overseeing public safety communications training program development, implementation and documentation, and “training the trainers”, or classroom instruction in advanced operations topics. A minimum of 2 years experience overseeing a training program will be required prior to certification at this lev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54760"/>
            <a:ext cx="77724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ject P.R.O.</a:t>
            </a:r>
            <a:br>
              <a:rPr sz="4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hat are the general eligibilities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igibility for the Communications Center Management certification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8 years full-time experience in public safety communications with 2 years in a managing rol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 years experience in public safety communications with 2 years of supervisory experienc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either 2 years in management in any field, or a college degree in a related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successful candidate will have a strong knowledge of organizational and operational theory applied to public safety communications. A firm understanding of communications systems, as well as personnel management and fiscal management will be necessa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54760"/>
            <a:ext cx="77724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ject P.R.O.</a:t>
            </a:r>
            <a:br>
              <a:rPr sz="4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ow will certification be achieved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didates will submit documentation that  experience, core training, additional training and education, and professional contributions meet the established standards of eligibility criteria at each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knowledge based test will be required at some/all lev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eria have been established to allow “Lifetime Learning” credits in lieu of some educational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54760"/>
            <a:ext cx="77724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ject P.R.O.</a:t>
            </a:r>
            <a:br>
              <a:rPr sz="4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hat is the current status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gram is still in development and will be implemented in s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RFI has been issued for test development and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ding sources are being investig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54760"/>
            <a:ext cx="77724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ject P.R.O.</a:t>
            </a:r>
            <a:br>
              <a:rPr sz="4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hat else needs to be done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ject’s current goal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e available, affordable, and effective methods of assessment, test development and deliv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test items, validate testing mater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y the amount and sources of funding to support the implementation of the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e to develop the program administration p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ile marketing objectives and id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te the program business p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a detailed action plan and time line for imple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54760"/>
            <a:ext cx="77724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ject P.R.O.</a:t>
            </a:r>
            <a:br>
              <a:rPr sz="4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2002-2003 Project Tea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nne Feller, Ch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ch Ab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Bra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is Car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ny Har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ielle Ho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all La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e McC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e No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z Phill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dice Sol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CO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V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na Bor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CO HQ Liason Woody Glov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67760"/>
            <a:ext cx="7772400" cy="28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Arial Black"/>
              </a:rPr>
              <a:t>P</a:t>
            </a: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rofessional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4800" spc="-1" strike="noStrike" u="sng">
                <a:solidFill>
                  <a:srgbClr val="ffcc00"/>
                </a:solidFill>
                <a:uFillTx/>
                <a:latin typeface="Arial Black"/>
              </a:rPr>
              <a:t>R</a:t>
            </a: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cognition</a:t>
            </a:r>
            <a:br>
              <a:rPr sz="4000"/>
            </a:b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4800" spc="-1" strike="noStrike" u="sng">
                <a:solidFill>
                  <a:srgbClr val="ffcc00"/>
                </a:solidFill>
                <a:uFillTx/>
                <a:latin typeface="Arial Black"/>
              </a:rPr>
              <a:t>O</a:t>
            </a: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btainment</a:t>
            </a:r>
            <a:br>
              <a:rPr sz="4000"/>
            </a:b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What is it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ission of the Certification Program is to establish a visible and valuable standard of quality that fosters the professional development of public safety communications personnel through recognition of knowledge, experience, training, and 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ject P.R.O.</a:t>
            </a:r>
            <a:br>
              <a:rPr sz="4800"/>
            </a:b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Why is it important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ency communications is a crucial part of public safety emergency services.  Due to increased awareness, the public expects a high level of quality service from the individuals who operate 9-1-1 PSAPs and Public Safety Communications Cen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PCO Long Range Strategic Plan recognizes the importance of professional development, and high standards through certifi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tification supports the APCO Mis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ject P.R.O.</a:t>
            </a:r>
            <a:br>
              <a:rPr sz="4800"/>
            </a:b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What will it do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ification will foster the professional development of personnel in public safety communications by challenging them to meet high standards of experience, education and training, and knowledge in their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ject P.R.O.</a:t>
            </a:r>
            <a:br>
              <a:rPr sz="4800"/>
            </a:b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What are the benefits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he participant: the establishment of career credentials, formal acknowledgment of expertise, the promotion of continuing education and training, and promotion of professional self-esteem and recogn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public safety agencies:creation of more credibility, encouragement of enhanced job performance, more knowledgeable employees, and increased protection from liabi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he public: higher professional standards for personnel involved in emergency communications profes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ject P.R.O.</a:t>
            </a:r>
            <a:br>
              <a:rPr sz="4800"/>
            </a:b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What has been done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Assessment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 Task/Skill Analysis w/Vali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 Handbook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gibility criteria establis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onal, Experience, Education/Training cours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time Learning Credits establi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rtification criteria establis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ing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 to the prof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068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ject P.R.O.</a:t>
            </a:r>
            <a:br>
              <a:rPr sz="4800"/>
            </a:b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What certifications will be available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currently proposed, certification standards will be available at the following leve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c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Specia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Program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ine Super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s Center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tification is based on eligibility for a level, not the candidates job title or class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24880"/>
            <a:ext cx="77724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ject P.R.O.</a:t>
            </a:r>
            <a:br>
              <a:rPr sz="48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are the general eligibilitie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Safety Communications Level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sic Operations standard requires a minimum of 2 years full time or 4000 hours part-time experience in public safety communications operation. To meet the standard it will be necessary to have a well-rounded, basic level of education and training in public safety communications subject ma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ject P.R.O.</a:t>
            </a:r>
            <a:br>
              <a:rPr sz="48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are the general eligibilities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Safety Communications Level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dvanced Operations certification standard requires 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inimum of 4 years full-time or 6000 hours part-time experience in public safety communications operations. The successful candidate will have continued their training and education beyond the Basic Operations, in a variety of subject areas. Knowledge based testing will be develop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00:19:22Z</dcterms:created>
  <dc:creator>Lynne</dc:creator>
  <dc:description/>
  <dc:language>en-US</dc:language>
  <cp:lastModifiedBy>Lynne</cp:lastModifiedBy>
  <dcterms:modified xsi:type="dcterms:W3CDTF">2002-08-12T20:15:09Z</dcterms:modified>
  <cp:revision>9</cp:revision>
  <dc:subject/>
  <dc:title>Project P.R.O.</dc:title>
</cp:coreProperties>
</file>