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F43-AE5E-4E42-B225-D60A9DFA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63C-E00B-4E01-B117-98D1CE93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E60-72DA-48B0-982D-F22F5411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C2B-3503-476E-99DF-CEF0103D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500-B5D4-4F9E-B631-4B549B81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0961-0B28-4326-8E8E-8CE7BEC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7F42-0F13-45DF-A654-33A3F276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30D-7DEF-4266-875D-5DA0E7D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23EC-6631-4635-8802-EDE9ECE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4083-C578-4CC7-825F-8033903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730F-D182-466C-91D0-1F5150D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D39-1241-4157-9432-B1FAFF74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FB1-44A2-4948-B09C-23C8C28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351F-8CB5-4CCE-AED3-DF817B1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1C93-4828-493E-9B3B-F678651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75D-C2AD-4F7F-A1C8-E50757F5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37C-249A-4826-B4AB-1EDB4FB8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ED0-E4CE-46DA-8536-E2ABDED6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BB3-2B2C-4409-AF7E-537413A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D04-08C9-4AC8-9F48-7F2E899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961-57CD-438F-965D-B9FBF93B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29B-ABAB-4573-99A3-A8AC1B1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00C-C767-47DA-932A-7A0BE6B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E03-7E1D-4B97-AE22-012C58D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95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DC3E-647E-476A-BE28-F4E2F4F4A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7240">
            <a:solidFill>
              <a:srgbClr val="c80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alphaModFix amt="64000"/>
          </a:blip>
          <a:stretch/>
        </p:blipFill>
        <p:spPr>
          <a:xfrm>
            <a:off x="0" y="6330960"/>
            <a:ext cx="441360" cy="52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633-F3D7-4EFC-9797-64E341A00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495320" y="457200"/>
            <a:ext cx="388620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apcoafc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OADBAND</a:t>
            </a:r>
            <a:br>
              <a:rPr sz="4400"/>
            </a:br>
            <a:r>
              <a:rPr b="1" i="1" lang="en-US" sz="3600" spc="-1" strike="noStrike">
                <a:solidFill>
                  <a:srgbClr val="bbe0e3"/>
                </a:solidFill>
                <a:latin typeface="Arial"/>
              </a:rPr>
              <a:t>Transitions</a:t>
            </a:r>
            <a:br>
              <a:rPr sz="3600"/>
            </a:b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- An evolutionary trip throug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203880"/>
            <a:ext cx="327672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Ron Haraseth, Director of AFC, APCO International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alphaModFix amt="64000"/>
          </a:blip>
          <a:stretch/>
        </p:blipFill>
        <p:spPr>
          <a:xfrm>
            <a:off x="0" y="0"/>
            <a:ext cx="2287440" cy="273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Leading the Public Safety Communications Community"/>
          <p:cNvPicPr/>
          <p:nvPr/>
        </p:nvPicPr>
        <p:blipFill>
          <a:blip r:embed="rId2"/>
          <a:stretch/>
        </p:blipFill>
        <p:spPr>
          <a:xfrm>
            <a:off x="0" y="2743200"/>
            <a:ext cx="358128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105520" y="5848200"/>
            <a:ext cx="4038480" cy="1009800"/>
            <a:chOff x="5105520" y="5848200"/>
            <a:chExt cx="4038480" cy="10098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8334360" y="5848200"/>
              <a:ext cx="8096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5105520" y="6210360"/>
              <a:ext cx="32004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202 0.97665 C 0.76441 0.9237 0.67969 0.75075 0.6257 0.65896 C 0.57205 0.56717 0.56875 0.44994 0.46858 0.42659 C 0.36841 0.40278 0.10348 0.5889 0.02535 0.51792 C -0.05277 0.44694 0.00417 0.08624 -4.44444E-006 -5.20231E-007 E">
                                      <p:cBhvr>
                                        <p:cTn id="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39 -0.37619 C -0.09931 -0.09526 -0.08056 0.14335 -0.07223 0.24971 C -0.0632 0.35699 -0.05747 0.36902 -0.05296 0.2652 C -0.04792 0.16231 -0.05018 -0.38035 -0.04393 -0.37041 C -0.03768 -0.36023 -0.02414 0.26289 -0.01684 0.32624 C -0.01007 0.39029 -0.0033 0.06589 -0.00053 0.01156 C 0.00295 -0.04324 4.72222E-006 0.00139 4.72222E-006 2.25434E-006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712 0.72925 C -0.75139 0.76023 -0.74566 0.79145 -0.72378 0.70613 C -0.70191 0.62081 -0.66476 0.26936 -0.62535 0.2178 C -0.58576 0.16624 -0.53368 0.39861 -0.48732 0.39746 C -0.44062 0.3963 -0.39705 0.20994 -0.34757 0.21133 C -0.29792 0.21249 -0.23785 0.39237 -0.19045 0.40578 C -0.14305 0.41919 -0.14844 0.36855 -0.06354 0.29179 C 0.02136 0.21503 0.3125 0.06289 0.3191 -0.05503 C 0.3257 -0.17295 0.02934 -0.42566 -0.02378 -0.41642 C -0.07691 -0.40717 -0.03854 -0.2037 -1.38889E-006 5.78035E-008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9 0.24301 C 0.15417 -0.22474 0.18455 -0.69248 0.04757 -0.83722 C -0.08941 -0.98196 -0.60451 -0.7563 -0.69844 -0.62566 C -0.79236 -0.49526 -0.63472 -0.13641 -0.51597 -0.05503 C -0.39722 0.02636 -0.05173 -0.02705 0.01424 -0.13734 C 0.08021 -0.24763 -0.02934 -0.66104 -0.12066 -0.71676 C -0.21198 -0.77248 -0.50503 -0.55977 -0.53333 -0.47144 C -0.56163 -0.38312 -0.34392 -0.17456 -0.29045 -0.18612 C -0.23698 -0.19769 -0.20104 -0.50705 -0.21267 -0.5415 C -0.2243 -0.57549 -0.37396 -0.48023 -0.36042 -0.39121 C -0.34687 -0.30219 -0.19184 -0.07214 -0.13177 -0.00647 C -0.0717 0.05873 -0.02187 -0.00115 -1.11111E-006 -2.25434E-006 E">
                                      <p:cBhvr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echnology driver to technology fol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can no longer drive the unique technology it needs to deliver the required grade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cost incentives for vendors (feat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economy of scale ($$$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cial public safety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, development and procurement tim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ly imbedded bureauc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speed commercial industr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al conver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capital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economy of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D53-3C75-432C-AA9C-0D0EFCF2D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y does public safety communication require something 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ritical component to classic public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to sup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ads/bri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e/fire/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ety of life and prop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ly all basic required/expected functions of classic pillars of public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ctity of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st we must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C82-D081-4871-866E-8F445CF5B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for Public Saf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individual systems to shar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vepipe channelization to trunking and TDMA infrastructure bas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d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use of commercial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lusive broadband/wideband wireless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9 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92D-B3F6-41E9-9796-BEC8BB0FC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the developments of commercial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use for spectrum that capitalizes upon commerci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n “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Public Safety Grade of Serv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ust, reliable “physical pla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y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7E9-D5F6-4942-9534-DF9C38CF0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Hz of bandwid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afety’s version of Wi-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frequ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ssion masks compatible with commercial deplo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– From TV digital tran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MHz of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 63, 64, 68, 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owband digital voice – 6.25 kHz (or equivalent) channelization - 12 MHz B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band data 50 kHz to 150 kHz channelization - 12 MHz B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867280"/>
            <a:ext cx="69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PS currently has approximately 26 MHz of band width pre-existing in spectrum allocations below 1 GHz, however, 80% of PS active operation is currently conducted in less than 8 MHz of band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900-4B48-43B5-9BD0-262C0821DD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 of 700 M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5921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53080" y="5181480"/>
            <a:ext cx="198144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ourtesy NORTEL broadband white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832-346D-4E34-9D2F-83A5E5A51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ules for wideband data 50 kHz to 150 kHz channelization  -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ypassed by technology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CC Eighth NP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the possibilities of other channelization which could provide tru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roadb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ullfoss2.fcc.gov/prod/ecfs/comsrch_v2.c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 proceeding, enter “96-8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CO/NPSTC – Flexibility to plan for 50 kHz up to 1.25 MHz bandwidth (or more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and other’s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9DA-FC80-40A6-8DC3-6CA69562D2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 - Other 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Safety Broadband Tr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ition by Cyren 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 700 MHz scheduled for FCC au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 MHz of bandwidth (pulled from au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ld in public safety tru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sed to commercial service 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ed with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Safety Grade of Servi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access to public via commercial c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rimary cost recover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FBC-5870-482C-9569-9A70418D43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- Other propos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Spectrum – “Broadband Optimiz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ignment of currently allocated 700 MHz includin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 manager spect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d 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e realignment of PS 7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MHz of band width channelized to accommodate narrowband, wideband and broad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026-875B-43B0-A7F6-38C3787BEB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band Optimiz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448320" cy="2068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371600" y="4394160"/>
            <a:ext cx="6477120" cy="21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415-118B-474B-9D44-F21231AF3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eginning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Broadband Spark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ion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in 1862 – James Max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ed by Heinrich He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88 - First spark gap transmitter (and rece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1 - Nikola Tesla U.S. Patent 4479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use of tuned “resonant” circu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ified the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1 - Guglielmo Marco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Transatlantic trans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410080"/>
            <a:ext cx="5562360" cy="10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band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acked essenti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6A8-A1CC-4E15-A3C2-CA155E5DD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PRM – FCC spons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MHz of current public safety 24 MHz al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National Licensee – non-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system based on commercial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se channels to commercial for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thless pre-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ential shared systems with commercial carriers with 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345-8C05-4EFD-B0E2-DA0FD3B77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Z 2155-2175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Broadband Radio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” to public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C accepts for filing 01/31/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63A-0555-4045-B7E6-D2095AAD6C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current commercial broadband providers “wireless broadband”, Wi-Max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Data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sion from CDPD to EVDO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convergence of ALL media applications on many wireless plat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009-B461-4D13-A147-EF781E847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ode capability outside of infrastructur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377800">
            <a:off x="4044600" y="2422440"/>
            <a:ext cx="4376880" cy="1556280"/>
          </a:xfrm>
          <a:prstGeom prst="rect">
            <a:avLst/>
          </a:prstGeom>
          <a:solidFill>
            <a:srgbClr val="c8081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Safety Grade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E7E-F74C-4E21-BCA7-61106532E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 for Mobile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5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a box under the dash where we turned a knob to select with whom we want to ta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and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eed a box under the dash where we turn a knob to select with whom we want to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1090600">
            <a:off x="6400800" y="1600200"/>
            <a:ext cx="236232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5E2-570B-4194-8917-E4EBD0E5D6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2514600"/>
            <a:ext cx="33526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n Haraseth,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C, In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ubsidiar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CO International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1 N Williamson Bl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tona Beach, FL 32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86-322-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asethr@apco911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34120" y="5334120"/>
            <a:ext cx="2286000" cy="80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191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apcoint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905120"/>
            <a:ext cx="3809880" cy="1399680"/>
          </a:xfrm>
          <a:prstGeom prst="rect">
            <a:avLst/>
          </a:prstGeom>
          <a:solidFill>
            <a:srgbClr val="e9f4a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the Broadb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Broadband discussion E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7EF-8C24-47DC-A609-DEE9EFE765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0867E-006 L 0.46979 0.4037 L 0.0158 0.86451 L -0.49531 0.3274 L -0.02066 -0.00624 E">
                                      <p:cBhvr>
                                        <p:cTn id="10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very broad signal carrying a singl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1906 the band width was reduced to 750 k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uum tubes brought the end to spark gap and similar spark technolo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7 - Lee De Forest developed the tri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vement up the technology ladder had beg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M – Frequency Mod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ypical technology behind the common land mobile ra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35 - Edwin Armstr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II technology developments enable practical equip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 for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394-18D9-401A-B58A-B267A527DC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tionary history of mobile radio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ing up the spectrum lad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and 30-5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band 150-17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HF 450-512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the technology cu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for more spect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230508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752400" cy="63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924680" y="3505320"/>
            <a:ext cx="281160" cy="49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915-2C6B-4502-8452-7D3ACB328A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Land Mobile Rad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 year love affair with frequency mod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lex pairing (repea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c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ower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apacity equals channel numbers??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480" y="457200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737"/>
                </a:solidFill>
                <a:latin typeface="Arial"/>
              </a:rPr>
              <a:t>Becoming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06B-9D0F-41DE-A0B4-0349DB9146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ikes High Band V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2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of use vs. actual allocated bandwidth of the various popular public safety allocated frequency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791320"/>
            <a:ext cx="4114800" cy="733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of use based on FCC data for the number of times any given frequency is reused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205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5791320"/>
            <a:ext cx="4114800" cy="72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ndividually allocated channels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1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2743200"/>
          <a:ext cx="392436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743200"/>
                    <a:ext cx="392436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" y="2743200"/>
          <a:ext cx="3886200" cy="29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38862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ADF-8542-43C3-9512-697362F9C7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ikes High Band V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82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of use vs. actual allocated bandwidth of the various popular public safety allocated frequency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791320"/>
            <a:ext cx="4114800" cy="733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of use based on FCC data for the number of times any given frequency is reused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205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791320"/>
            <a:ext cx="4114800" cy="72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ndividually allocated channels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1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2743200"/>
          <a:ext cx="392436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743200"/>
                    <a:ext cx="392436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" y="2743200"/>
          <a:ext cx="3886200" cy="29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38862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228600" y="2971800"/>
            <a:ext cx="4800240" cy="2895120"/>
            <a:chOff x="228600" y="2971800"/>
            <a:chExt cx="4800240" cy="289512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228600" y="2971800"/>
              <a:ext cx="480024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8440" y="4440960"/>
              <a:ext cx="674640" cy="459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60" y="3798360"/>
              <a:ext cx="674640" cy="459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9000" y="4165560"/>
              <a:ext cx="2099880" cy="1191240"/>
            </a:xfrm>
            <a:prstGeom prst="rect">
              <a:avLst/>
            </a:prstGeom>
            <a:solidFill>
              <a:srgbClr val="e9f4aa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/4ths of all current radio use is located in these two b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1E5-E9ED-4080-BAFD-5A9C4D175651}" type="slidenum">
              <a:t>7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MR Spectrum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Public Safety spectrum i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for land mobile radio operation is limited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 MH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ocated spectr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stly high band VHF (50%) and UHF (25%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mpare - One analog TV channel uses 6 MHz of spectrum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 MHz use is only 8% of total actively used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wer coverage area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igh application/user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 brings 24 MHz of additional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wer coverage area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igh application/user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lf reserved for wide/broad band new technolog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9 GHz brings 50 MHz of additional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t spot broadband high density u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6E1-3022-4D1C-93BE-D8214090C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safety drives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lassic radio feature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the last 10-1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and the public “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disc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phones and other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sion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/Cost r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vergence of Features/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speed wireles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eatures/applications unlea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1203000">
            <a:off x="6400800" y="3809520"/>
            <a:ext cx="140976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FD4-829D-4F32-BD97-9E26286E5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9:44:36Z</dcterms:created>
  <dc:creator>Ron Haraseth</dc:creator>
  <dc:description/>
  <dc:language>en-US</dc:language>
  <cp:lastModifiedBy> </cp:lastModifiedBy>
  <dcterms:modified xsi:type="dcterms:W3CDTF">2007-02-13T00:28:41Z</dcterms:modified>
  <cp:revision>52</cp:revision>
  <dc:subject/>
  <dc:title>Slide 1</dc:title>
</cp:coreProperties>
</file>