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C5A-BF17-4054-9B2E-F8E0EFDF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DBE-D0AD-42A8-BB2C-A89D814D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E9B-0079-49AE-ABD1-83CF67CE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87A-5791-4F42-A977-1FDDEF93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D45-6AF2-4546-B640-0C15F073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0A5-BB05-4116-B676-B168B6C1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5E4-58F0-4522-AF64-DC5D477B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335-5030-4128-B777-81F681C6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FB9-00FD-4038-9FD0-9DCF0B2A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261-C9FA-4E72-9FF1-17D09457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460-6AB5-40EC-8ED8-D3189F33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836-9941-4472-9DE6-44AAEA4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849A-48C6-400C-8E9D-DA2573A9B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5680"/>
          <a:ext cx="5029200" cy="33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5680"/>
                    <a:ext cx="502920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89548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us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4191120"/>
            <a:ext cx="213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aw Enforcemen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4382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752480"/>
            <a:ext cx="140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LS/First Respon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120" y="37339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400800" y="3657600"/>
          <a:ext cx="2895480" cy="19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657600"/>
                    <a:ext cx="28954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324480" y="5257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77320" y="350532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omelan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400800" y="380880"/>
          <a:ext cx="2895480" cy="192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80880"/>
                    <a:ext cx="28954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 flipH="1">
            <a:off x="6324480" y="19051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228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omelan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1371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228600"/>
          <a:ext cx="2895840" cy="192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228600"/>
                    <a:ext cx="289584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 flipH="1" flipV="1">
            <a:off x="2362320" y="175212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8288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808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omelan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3733920"/>
          <a:ext cx="2895840" cy="192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733920"/>
                    <a:ext cx="2895840" cy="19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752480" y="5486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Du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35812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omelan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285640" y="3733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60680" y="2295360"/>
            <a:ext cx="411120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60320" y="2295360"/>
            <a:ext cx="41115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60680" y="2295360"/>
            <a:ext cx="41108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60680" y="4352760"/>
            <a:ext cx="2055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60680" y="2295360"/>
            <a:ext cx="4110840" cy="41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00000"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1800" y="2362320"/>
            <a:ext cx="3200400" cy="3615840"/>
            <a:chOff x="2971800" y="2362320"/>
            <a:chExt cx="3200400" cy="3615840"/>
          </a:xfrm>
        </p:grpSpPr>
        <p:sp>
          <p:nvSpPr>
            <p:cNvPr id="73" name=""/>
            <p:cNvSpPr/>
            <p:nvPr/>
          </p:nvSpPr>
          <p:spPr>
            <a:xfrm>
              <a:off x="4114800" y="3843000"/>
              <a:ext cx="990360" cy="9914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4960" y="3309120"/>
              <a:ext cx="2133720" cy="2036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71800" y="2775240"/>
              <a:ext cx="3200400" cy="32029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90760" y="41925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8480" y="34297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29278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Fed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90760" y="23623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69680" y="251460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LS/First Respo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802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48783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 Enfor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9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Homeland Security integrates key components from multiple areas of expertise at all levels of government and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OP UTA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5800" y="2666520"/>
            <a:ext cx="7772040" cy="2360880"/>
            <a:chOff x="685800" y="2666520"/>
            <a:chExt cx="7772040" cy="2360880"/>
          </a:xfrm>
        </p:grpSpPr>
        <p:cxnSp>
          <p:nvCxnSpPr>
            <p:cNvPr id="87" name="_s33797"/>
            <p:cNvCxnSpPr>
              <a:stCxn id="88" idx="0"/>
              <a:endCxn id="89" idx="4"/>
            </p:cNvCxnSpPr>
            <p:nvPr/>
          </p:nvCxnSpPr>
          <p:spPr>
            <a:xfrm flipH="1" flipV="1" rot="5400000">
              <a:off x="3967200" y="3776400"/>
              <a:ext cx="208440" cy="1001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3798"/>
            <p:cNvCxnSpPr>
              <a:stCxn id="91" idx="0"/>
              <a:endCxn id="89" idx="4"/>
            </p:cNvCxnSpPr>
            <p:nvPr/>
          </p:nvCxnSpPr>
          <p:spPr>
            <a:xfrm flipV="1" rot="16200000">
              <a:off x="5968080" y="2775600"/>
              <a:ext cx="208440" cy="3002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3799"/>
            <p:cNvCxnSpPr>
              <a:stCxn id="93" idx="0"/>
              <a:endCxn id="89" idx="4"/>
            </p:cNvCxnSpPr>
            <p:nvPr/>
          </p:nvCxnSpPr>
          <p:spPr>
            <a:xfrm flipV="1" rot="16200000">
              <a:off x="4967280" y="3776400"/>
              <a:ext cx="208440" cy="1001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3800"/>
            <p:cNvCxnSpPr>
              <a:stCxn id="95" idx="0"/>
              <a:endCxn id="89" idx="4"/>
            </p:cNvCxnSpPr>
            <p:nvPr/>
          </p:nvCxnSpPr>
          <p:spPr>
            <a:xfrm flipH="1" flipV="1" rot="5400000">
              <a:off x="2966400" y="2775600"/>
              <a:ext cx="208440" cy="3002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3801"/>
            <p:cNvSpPr/>
            <p:nvPr/>
          </p:nvSpPr>
          <p:spPr>
            <a:xfrm>
              <a:off x="3176280" y="2666520"/>
              <a:ext cx="2791080" cy="1506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ard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verse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Governing Bod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33802"/>
            <p:cNvSpPr/>
            <p:nvPr/>
          </p:nvSpPr>
          <p:spPr>
            <a:xfrm>
              <a:off x="685800" y="4381200"/>
              <a:ext cx="1767600" cy="64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33803"/>
            <p:cNvSpPr/>
            <p:nvPr/>
          </p:nvSpPr>
          <p:spPr>
            <a:xfrm>
              <a:off x="4689000" y="4381200"/>
              <a:ext cx="1767240" cy="64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33804"/>
            <p:cNvSpPr/>
            <p:nvPr/>
          </p:nvSpPr>
          <p:spPr>
            <a:xfrm>
              <a:off x="6690240" y="4381200"/>
              <a:ext cx="1767600" cy="64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LS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spon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_s33805"/>
            <p:cNvSpPr/>
            <p:nvPr/>
          </p:nvSpPr>
          <p:spPr>
            <a:xfrm>
              <a:off x="2687400" y="4381200"/>
              <a:ext cx="1767600" cy="646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forc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080040" y="1865160"/>
            <a:ext cx="192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4080" y="163656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56520" y="1511280"/>
            <a:ext cx="1600200" cy="685800"/>
          </a:xfrm>
          <a:prstGeom prst="borderCallout1">
            <a:avLst>
              <a:gd name="adj1" fmla="val 18750"/>
              <a:gd name="adj2" fmla="val -8333"/>
              <a:gd name="adj3" fmla="val 146296"/>
              <a:gd name="adj4" fmla="val -762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105520"/>
            <a:ext cx="6782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within a community of pract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 that involve multiple communities of pract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State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184320"/>
            <a:ext cx="6858000" cy="64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32:29Z</dcterms:created>
  <dc:creator>Paula Ernstrom</dc:creator>
  <dc:description/>
  <dc:language>en-US</dc:language>
  <cp:lastModifiedBy>JLucas</cp:lastModifiedBy>
  <dcterms:modified xsi:type="dcterms:W3CDTF">2003-10-24T15:12:42Z</dcterms:modified>
  <cp:revision>14</cp:revision>
  <dc:subject/>
  <dc:title>PowerPoint Presentation</dc:title>
</cp:coreProperties>
</file>