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734-5F52-4FDC-8FE1-E1E2AE5F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54AC-E20E-40A3-A05C-9A587439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5EB-AF8E-4355-9D87-13A49E86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EF4-3EFA-4B9E-AFF2-20E9F4E5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51D6-3353-4EE7-8CC7-13BF6D33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32CA-553D-4A42-8FC3-F5D916F5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D1B-80D9-4A6D-B672-1D75EC90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348A-DC59-4EFC-8EC1-19DF56D5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62A2-9DFF-4C18-8140-CFE86B56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BB0-38E3-4ED1-BE60-CE11E699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640-FFF1-4903-A2F6-80D64907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2212-7C0D-449E-857C-0A0EE0C3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7921-BF7B-486C-84C0-98C71FA81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5680"/>
          <a:ext cx="5029200" cy="33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5680"/>
                    <a:ext cx="502920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895480" y="3962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24280" y="4191120"/>
            <a:ext cx="213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aw Enforcement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24382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1752480"/>
            <a:ext cx="140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LS/First Respon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77120" y="373392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400800" y="3657600"/>
          <a:ext cx="2895480" cy="19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3657600"/>
                    <a:ext cx="289548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6324480" y="52578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ther Du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77320" y="350532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omeland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400800" y="380880"/>
          <a:ext cx="2895480" cy="192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80880"/>
                    <a:ext cx="2895480" cy="19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 flipH="1">
            <a:off x="6324480" y="19051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2286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omeland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13716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ther Du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228600"/>
          <a:ext cx="2895840" cy="192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228600"/>
                    <a:ext cx="289584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 flipH="1" flipV="1">
            <a:off x="2362320" y="175212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18288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ther Du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808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omeland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280" y="3733920"/>
          <a:ext cx="2895840" cy="1928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733920"/>
                    <a:ext cx="2895840" cy="19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752480" y="5486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ther Du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35812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omeland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285640" y="37339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60680" y="2295360"/>
            <a:ext cx="411120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60320" y="2295360"/>
            <a:ext cx="411156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60680" y="2295360"/>
            <a:ext cx="41108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560680" y="4352760"/>
            <a:ext cx="2055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60680" y="2295360"/>
            <a:ext cx="4110840" cy="411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71800" y="2362320"/>
            <a:ext cx="3200400" cy="3615840"/>
            <a:chOff x="2971800" y="2362320"/>
            <a:chExt cx="3200400" cy="3615840"/>
          </a:xfrm>
        </p:grpSpPr>
        <p:sp>
          <p:nvSpPr>
            <p:cNvPr id="73" name=""/>
            <p:cNvSpPr/>
            <p:nvPr/>
          </p:nvSpPr>
          <p:spPr>
            <a:xfrm>
              <a:off x="4114800" y="3843000"/>
              <a:ext cx="990360" cy="99144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04960" y="3309120"/>
              <a:ext cx="2133720" cy="2036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71800" y="2775240"/>
              <a:ext cx="3200400" cy="32029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0760" y="41925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38480" y="342972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38480" y="29278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Fede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90760" y="236232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769680" y="251460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LS/First Respon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8020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s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487836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w Enfor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2438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0492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Homeland Security integrates key components from multiple areas of expertise at all levels of government and 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OP UTA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85800" y="2666520"/>
            <a:ext cx="7772040" cy="2360880"/>
            <a:chOff x="685800" y="2666520"/>
            <a:chExt cx="7772040" cy="2360880"/>
          </a:xfrm>
        </p:grpSpPr>
        <p:cxnSp>
          <p:nvCxnSpPr>
            <p:cNvPr id="87" name="_s33797"/>
            <p:cNvCxnSpPr>
              <a:stCxn id="88" idx="0"/>
              <a:endCxn id="89" idx="4"/>
            </p:cNvCxnSpPr>
            <p:nvPr/>
          </p:nvCxnSpPr>
          <p:spPr>
            <a:xfrm flipH="1" flipV="1" rot="5400000">
              <a:off x="3967200" y="3776400"/>
              <a:ext cx="208440" cy="1001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33798"/>
            <p:cNvCxnSpPr>
              <a:stCxn id="91" idx="0"/>
              <a:endCxn id="89" idx="4"/>
            </p:cNvCxnSpPr>
            <p:nvPr/>
          </p:nvCxnSpPr>
          <p:spPr>
            <a:xfrm flipV="1" rot="16200000">
              <a:off x="5968080" y="2775600"/>
              <a:ext cx="208440" cy="3002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33799"/>
            <p:cNvCxnSpPr>
              <a:stCxn id="93" idx="0"/>
              <a:endCxn id="89" idx="4"/>
            </p:cNvCxnSpPr>
            <p:nvPr/>
          </p:nvCxnSpPr>
          <p:spPr>
            <a:xfrm flipV="1" rot="16200000">
              <a:off x="4967280" y="3776400"/>
              <a:ext cx="208440" cy="1001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33800"/>
            <p:cNvCxnSpPr>
              <a:stCxn id="95" idx="0"/>
              <a:endCxn id="89" idx="4"/>
            </p:cNvCxnSpPr>
            <p:nvPr/>
          </p:nvCxnSpPr>
          <p:spPr>
            <a:xfrm flipH="1" flipV="1" rot="5400000">
              <a:off x="2966400" y="2775600"/>
              <a:ext cx="208440" cy="3002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9" name="_s33801"/>
            <p:cNvSpPr/>
            <p:nvPr/>
          </p:nvSpPr>
          <p:spPr>
            <a:xfrm>
              <a:off x="3176280" y="2666520"/>
              <a:ext cx="2791080" cy="1506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ard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verse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Governing Bod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 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33802"/>
            <p:cNvSpPr/>
            <p:nvPr/>
          </p:nvSpPr>
          <p:spPr>
            <a:xfrm>
              <a:off x="685800" y="4381200"/>
              <a:ext cx="1767600" cy="646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st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_s33803"/>
            <p:cNvSpPr/>
            <p:nvPr/>
          </p:nvSpPr>
          <p:spPr>
            <a:xfrm>
              <a:off x="4689000" y="4381200"/>
              <a:ext cx="1767240" cy="646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_s33804"/>
            <p:cNvSpPr/>
            <p:nvPr/>
          </p:nvSpPr>
          <p:spPr>
            <a:xfrm>
              <a:off x="6690240" y="4381200"/>
              <a:ext cx="1767600" cy="646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LS 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Respond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_s33805"/>
            <p:cNvSpPr/>
            <p:nvPr/>
          </p:nvSpPr>
          <p:spPr>
            <a:xfrm>
              <a:off x="2687400" y="4381200"/>
              <a:ext cx="1767600" cy="646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forc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080040" y="1865160"/>
            <a:ext cx="192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04080" y="1636560"/>
            <a:ext cx="22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56520" y="1511280"/>
            <a:ext cx="1600200" cy="685800"/>
          </a:xfrm>
          <a:prstGeom prst="borderCallout1">
            <a:avLst>
              <a:gd name="adj1" fmla="val 18750"/>
              <a:gd name="adj2" fmla="val -8333"/>
              <a:gd name="adj3" fmla="val 146296"/>
              <a:gd name="adj4" fmla="val -762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is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105520"/>
            <a:ext cx="6782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 within a community of pract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 that involve multiple communities of pract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State Pro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184320"/>
            <a:ext cx="6858000" cy="648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32:29Z</dcterms:created>
  <dc:creator>Paula Ernstrom</dc:creator>
  <dc:description/>
  <dc:language>en-US</dc:language>
  <cp:lastModifiedBy>JLucas</cp:lastModifiedBy>
  <dcterms:modified xsi:type="dcterms:W3CDTF">2003-10-24T15:12:42Z</dcterms:modified>
  <cp:revision>14</cp:revision>
  <dc:subject/>
  <dc:title>PowerPoint Presentation</dc:title>
</cp:coreProperties>
</file>